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14A-A46D-4FAD-B59F-D0E79BDD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C82-599B-415A-9947-13055A5A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4CE-690C-4986-869F-E4E63232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346-25CD-4C35-9C44-D1D9711E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7C8-57F9-43A5-B6E1-69F01B0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CFF-F030-47F8-ABFD-0A4A178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C1A-67D3-49F7-9D2F-ECF6CFE7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92E-679F-4888-A2C0-78B4EC87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418-F5E8-4ABB-BB8C-C7A06C52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FB3-D764-4F0F-8792-B955EC3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556-86E2-4FB7-A247-B93CB48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FFE-A1E8-4FF3-B7A9-26320CE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529-0816-40D3-83B9-938D3CB98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hie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43200" y="19051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leader of a gro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00200" y="38862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hief told the firemen to get down the pole qui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C:\Documents and Settings\kcs user\Local Settings\Temporary Internet Files\Content.IE5\I59DIVBT\MCj04241540000[1].wmf"/>
          <p:cNvPicPr/>
          <p:nvPr/>
        </p:nvPicPr>
        <p:blipFill>
          <a:blip r:embed="rId1"/>
          <a:stretch/>
        </p:blipFill>
        <p:spPr>
          <a:xfrm>
            <a:off x="304920" y="609480"/>
            <a:ext cx="14475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g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quipment used to do certain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y gear for baseball is a bat, ball and gl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kcs user\Local Settings\Temporary Internet Files\Content.IE5\I59DIVBT\MCj04370740000[1].png"/>
          <p:cNvPicPr/>
          <p:nvPr/>
        </p:nvPicPr>
        <p:blipFill>
          <a:blip r:embed="rId1"/>
          <a:stretch/>
        </p:blipFill>
        <p:spPr>
          <a:xfrm>
            <a:off x="304920" y="4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etec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device that detects or picks up a sig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moke detector has saved many lives from f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Documents and Settings\kcs user\Local Settings\Temporary Internet Files\Content.IE5\VSX0T3LB\MCBD06920_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xamin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look over carefu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doctor wanted to examine the bump on my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C:\Documents and Settings\kcs user\Local Settings\Temporary Internet Files\Content.IE5\9Q2J45KX\MCPE07303_0000[1].wmf"/>
          <p:cNvPicPr/>
          <p:nvPr/>
        </p:nvPicPr>
        <p:blipFill>
          <a:blip r:embed="rId1"/>
          <a:stretch/>
        </p:blipFill>
        <p:spPr>
          <a:xfrm>
            <a:off x="0" y="0"/>
            <a:ext cx="2062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mothe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put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y to smother the f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Documents and Settings\kcs user\Local Settings\Temporary Internet Files\Content.IE5\XMBH62NV\MCj04348160000[1].png"/>
          <p:cNvPicPr/>
          <p:nvPr/>
        </p:nvPicPr>
        <p:blipFill>
          <a:blip r:embed="rId1"/>
          <a:stretch/>
        </p:blipFill>
        <p:spPr>
          <a:xfrm>
            <a:off x="60948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al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s that control he flow of 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t off the valves before the water floods the buildin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kcs user\Local Settings\Temporary Internet Files\Content.IE5\XMBH62NV\MPj03996780000[1].jpg"/>
          <p:cNvPicPr/>
          <p:nvPr/>
        </p:nvPicPr>
        <p:blipFill>
          <a:blip r:embed="rId1"/>
          <a:stretch/>
        </p:blipFill>
        <p:spPr>
          <a:xfrm>
            <a:off x="0" y="0"/>
            <a:ext cx="17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esignat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74320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rked or agreed upo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600200" y="38862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r family should have a designated spot to meet if there is a fi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C:\Documents and Settings\kcs user\Local Settings\Temporary Internet Files\Content.IE5\I59DIVBT\MCj04241540000[1].wmf"/>
          <p:cNvPicPr/>
          <p:nvPr/>
        </p:nvPicPr>
        <p:blipFill>
          <a:blip r:embed="rId1"/>
          <a:stretch/>
        </p:blipFill>
        <p:spPr>
          <a:xfrm>
            <a:off x="304920" y="609480"/>
            <a:ext cx="14475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send a message; the act of sending mess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man tried to dispatch the message that the cab driver needed to pick someone up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Documents and Settings\kcs user\Local Settings\Temporary Internet Files\Content.IE5\I59DIVBT\MCj04043890000[1].wmf"/>
          <p:cNvPicPr/>
          <p:nvPr/>
        </p:nvPicPr>
        <p:blipFill>
          <a:blip r:embed="rId1"/>
          <a:stretch/>
        </p:blipFill>
        <p:spPr>
          <a:xfrm>
            <a:off x="0" y="0"/>
            <a:ext cx="17622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mergenc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9320" y="213372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ngs that happen without warning and require a quick respon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62120" y="44956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oalie guarded the goal and kept the other team from scoring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C:\Program Files\Microsoft Office\MEDIA\CAGCAT10\j0211949.wmf"/>
          <p:cNvPicPr/>
          <p:nvPr/>
        </p:nvPicPr>
        <p:blipFill>
          <a:blip r:embed="rId1"/>
          <a:stretch/>
        </p:blipFill>
        <p:spPr>
          <a:xfrm>
            <a:off x="838080" y="533520"/>
            <a:ext cx="19004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ou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19320" y="21337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ath or tra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2120" y="44956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a safe route to get out of your home in an emergenc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C:\Program Files\Microsoft Office\MEDIA\CAGCAT10\j0211949.wmf"/>
          <p:cNvPicPr/>
          <p:nvPr/>
        </p:nvPicPr>
        <p:blipFill>
          <a:blip r:embed="rId1"/>
          <a:stretch/>
        </p:blipFill>
        <p:spPr>
          <a:xfrm>
            <a:off x="838080" y="533520"/>
            <a:ext cx="19004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e eng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uck used to put out f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90720" y="335268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ire engine got to the house just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C:\Documents and Settings\kcs user\Local Settings\Temporary Internet Files\Content.IE5\I59DIVBT\MCj0358009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1371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econd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lternate or extra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90720" y="33526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a secondary escape route to get out of your house if there is a f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kcs user\Local Settings\Temporary Internet Files\Content.IE5\VSX0T3LB\MCj03963280000[1].wmf"/>
          <p:cNvPicPr/>
          <p:nvPr/>
        </p:nvPicPr>
        <p:blipFill>
          <a:blip r:embed="rId1"/>
          <a:stretch/>
        </p:blipFill>
        <p:spPr>
          <a:xfrm>
            <a:off x="0" y="0"/>
            <a:ext cx="19051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ri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actice exerci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 talk when we do a fire dri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C:\Documents and Settings\kcs user\Local Settings\Temporary Internet Files\Content.IE5\XMBH62NV\MPj04395750000[1].jpg"/>
          <p:cNvPicPr/>
          <p:nvPr/>
        </p:nvPicPr>
        <p:blipFill>
          <a:blip r:embed="rId1"/>
          <a:stretch/>
        </p:blipFill>
        <p:spPr>
          <a:xfrm>
            <a:off x="533520" y="380880"/>
            <a:ext cx="1939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efight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ople who put out fires as their job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refighters are very brave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C:\Documents and Settings\kcs user\Local Settings\Temporary Internet Files\Content.IE5\VSX0T3LB\MCj0334012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446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0:16:39Z</dcterms:created>
  <dc:creator>Administrator</dc:creator>
  <dc:description/>
  <dc:language>en-US</dc:language>
  <cp:lastModifiedBy>Shady Brook Elementary</cp:lastModifiedBy>
  <dcterms:modified xsi:type="dcterms:W3CDTF">2008-12-10T23:19:40Z</dcterms:modified>
  <cp:revision>5</cp:revision>
  <dc:subject/>
  <dc:title>PowerPoint Presentation</dc:title>
</cp:coreProperties>
</file>